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62665-DD3E-4C31-8436-B918B7F3BE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D4537-EA02-495C-A93E-0D9C081D6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15F-7E5F-46DC-8E7F-AD49A181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FC9-80FB-45C5-942C-2F551426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A4E-48ED-42C0-8126-F3FAB00C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B1E-C94F-430C-8222-010E75D8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11FD-F6B7-4D44-BA04-15F42CDF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8B14-1385-41A2-AA26-EADB79CF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DCF8-7B92-4971-A62C-57E8481C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E95C-C37A-4FEB-8D9F-5B5A35C6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3402-E28B-43AD-94D4-2B75CEA5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A72D-A31B-461F-B6F0-9C28477A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BCEB-83F5-4F09-8F41-FE188A64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392-6E68-45AE-9ED9-83ADF40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8B2-840C-46D7-B988-38BDB667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608E-EBD2-45CC-8C2A-3E57CB4B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C6E3-9E9A-4925-B289-9D5962F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17FD-7D50-4AF9-B359-81DEC51A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E6B2-13AD-412C-8500-FFD3B359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3FD-A4FA-46C5-B465-50503EA4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72A-E456-4020-BD5A-0C260468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66D-F2CA-49B5-8C11-0DE5C78F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C58-898B-477A-9C70-0E34DBFC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210-A87E-4C07-83C1-CA965B2C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C98-0F2F-4EC1-ABFF-BD5A63F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7A3-5C78-4E16-B9F1-91A9DCE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D3049-0E59-4DEA-9F02-CCACABF8F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B515B-7A64-4FA5-A74D-5B03A57D8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7-01-26T10:14:13Z</dcterms:modified>
  <cp:revision>20</cp:revision>
  <dc:subject/>
  <dc:title>How are images of the Sun taken?</dc:title>
</cp:coreProperties>
</file>